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79CC-9917-4CD3-A35C-A9AE40C65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AEB9-1D1F-48C9-BEF9-FAF63CD03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D6E-AC56-4550-8156-67835FC3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BA5-2113-4471-BAF1-52AA6B96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E12-4C49-48E9-A56D-357211E8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6BC-C37C-4C86-8327-BAADD677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E8A-BAD6-45AC-856E-8AAF8B10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157-97BB-4AF9-AF61-8911A7F6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CB0-F3FB-4A1E-8B26-0EB02A5B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91D-A310-4BD9-AB9F-88C5F043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C4A-0C77-4C2A-85D9-A3AA0943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AA2-6A1F-4CA4-9D34-0C7FEBB7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651-A4E5-43FD-82D0-23CCBADC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A527-FD75-477E-8599-60C4E566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FE7A-DBE9-4385-A0E3-385B8452F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a. P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son cosa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6094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 el apellido (last name)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familia mexicana de A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Sánchez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 lugar donde vive la fam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ánche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Tepic, Nayarit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anera de saludars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migos/amigas en Méxi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con un beso en las mejilla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despué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amiga que Ana cono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 gimnas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ién es Patrici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tienda  adonde Ana, Susan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 Juana v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el Gigant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expresión de bienv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 Méxi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“Mi casa es su casa”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066680" y="12952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arr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llega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12193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s nombres de las hijas de l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milia Sánche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iénes son Juana y Susan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362320" y="380880"/>
            <a:ext cx="175248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g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876920" y="380880"/>
            <a:ext cx="16002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um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7010280" y="380880"/>
            <a:ext cx="175284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cabul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ciudad donde Ana cambi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viones para regresar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ifor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Guadalajar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diferencia en usar agu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 casas en Méxi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no tiene agua calient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ys good-by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se despid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11430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 cocinero y el pad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 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ién es Robert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ciudad donde Ana v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 su famil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Hermosa Beach, Californi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a casa típica en Tep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una casa pequeña con un bañ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irpl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el avión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 el hermano de A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ién es Don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escuela americana de 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West Torrance High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 baile famoso en Tep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la cumbi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2:38:20Z</dcterms:created>
  <dc:creator>Jerry Myers</dc:creator>
  <dc:description>Created by Jerry Myers is 1998 for a class.</dc:description>
  <dc:language>en-US</dc:language>
  <cp:lastModifiedBy>WCSD</cp:lastModifiedBy>
  <cp:lastPrinted>2001-01-31T16:21:13Z</cp:lastPrinted>
  <dcterms:modified xsi:type="dcterms:W3CDTF">2011-05-02T14:23:54Z</dcterms:modified>
  <cp:revision>7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